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09E-0E78-4A82-8927-2DA59E21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CDE-EE6A-41C9-B791-C0C3471C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DC50D-2930-4417-9D7D-ABF4EB9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1BDE3-CB50-4FC0-B54D-8C0D6A57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671B2-4CE9-42BA-8526-E6D1648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FFB19-0BCE-446E-9DF3-BAF6A5B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5BCC6-82FC-46D5-910A-CF5D9C7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E6BE1-9F33-4BF9-A73E-DBCE311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8D684-283D-47AE-8221-978D057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05136-1754-4D70-AA69-1B1D3F01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CCEDE-F481-48F8-A583-E6108DC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9490-2616-4887-875E-6A2A81A8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4E5-845A-4DF1-AB42-480733C8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463B3-EC27-4D51-ADC4-E55596B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D720-68AE-468F-AF83-BC535006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6AA32-F074-463F-B9E0-DDE09B5A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F0190-C226-424C-B40E-E0F4DC86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AFE8B-2FF8-46C4-AF97-81DF2CC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C8AD-D97F-4B30-B1D1-41DD1AE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D1491-465F-41E9-AA5B-C5AA72B6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202A1-60A5-467D-B344-8A57870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BA86B-F882-48C9-B5C1-3C1368E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51CA5-148E-4BE4-A38E-4C985DB2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14D-3B03-41A4-8F0D-B80B57A2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163C4-6E23-45EB-A3FF-89F8BE98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8A4D9-6EED-4B15-9A21-BE1CEC68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7450-E2DF-4C88-8D09-CC5B6F28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8EF4D-4504-41D8-8585-503E698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22276-FA78-4E53-A205-A9D6688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F4705-D94C-4C33-88C6-51C65C7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F9A9A-CBDB-40C3-83CC-D747F6DD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0EF4F-0997-4AA2-82D4-881909C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A0790-7945-4A72-90FC-900403B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431C6-2109-4F21-9E3D-E7362F16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F86-3CC7-411F-AB54-DABF30C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06722-5D89-44C1-B9E8-76ACBD1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78CBD-39F2-4053-8A47-D025EA57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7AC87-BB63-4447-AF4D-B1ADC434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9DFD-C866-4929-BD2A-46631130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8CEA5-D0BB-49D9-8236-64FF7D9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7D8D-018A-45BD-9A51-F1946C5D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BC05B-8999-4CC8-84A9-68F9C2B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EF83D-9A23-4128-A6C3-0AF7371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C56B5-8259-4091-A726-0F01F7A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F902C-71F0-4773-AA1E-E7A5030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1659-FFE4-4AD0-A50A-4E1117B5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E8C32-DF0F-4B1E-AC3E-CD22281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D54F2-E466-4B66-9ECF-8692BF49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8A142-DA46-4C8B-A0B9-6F5BC23E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F1B45-7C0F-493E-9E27-E7092322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F4DB3-1E6A-4F88-914B-D861E5FF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DD6A-D568-4FD0-AFCF-7A2074F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87CC-DEE8-440B-82FA-F081F78C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D3C-3316-497F-84FD-D9F7468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6E20-0168-4B56-A2B5-48292B0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C2D-CE53-4263-A476-3218A87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765-4A28-4160-8456-03C1E566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700-C584-4D84-BE2A-7BB5FDC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C3C-A96A-47C1-A37F-AE5605E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05FC-A601-43E4-AA6F-337870F4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5FDF-AE5E-4B0E-A5F6-A592F26F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AF7-9119-458B-80F1-45E4F850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4232-CE9F-404D-BC65-0A856487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750F-584D-4934-AB22-36C57C0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2F5F-C2EB-4C99-87D6-A2C19722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7BF2-79C5-445E-83F5-7CDAFD8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5F2C-B644-4999-839E-B0BDEB9D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79A-B0A6-4462-BB73-28605D62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DD67-F326-424E-8C48-30F17B28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3FB3-88DA-4645-803A-F03DB12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5FD5-80B3-47AB-B259-5B9141C1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9DC0-AEBB-40F4-82AE-FC21F66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0C0C-E813-419D-899C-33378DB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DDDD-732B-493F-8EB0-ACAAA1E7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47B6-3E8F-42BB-98C8-C20B88A2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CB2C-EE33-4BF3-ADFA-C5447D07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F344-AABF-4FC6-8C6A-936317C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2F1F-E371-4019-9E7C-A054755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9C4-C647-4F9A-ACC2-877F1633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354B-034D-4350-9479-DE0F994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AA53-CF12-4750-A235-9DC8669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27A5-A55B-4D24-A56B-478DB27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1788-B265-4C86-90A4-67CEB14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0E18-0E45-4A2F-BCC8-2FE1741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4E36-2E49-43E7-B664-F0911C6E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3680-2568-48AB-982F-DDA59B0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ACC0-6FA2-45C4-B459-E288CDCC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A8D4-62A1-4201-A1FF-03A3877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50AB0-C105-42EA-B65A-78506B85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F88-9C68-48D0-9A7F-5A16694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A4D9-A61D-4E6A-BE79-B108780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C690-62DF-414A-AC59-7A62E398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E487-CC22-4224-8F79-0005610F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3C06-C956-4B4F-8123-9F261C7E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1DBF-AC42-49B0-8242-FA90D29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A51A5-8FC2-44B4-A148-786D6FB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6EF5-C6F2-49CA-8E31-DD227C0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4C1F-A87C-4AA3-BD14-82F2574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655F-1289-485A-A6C3-B730D72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FD42-7CD8-4F4C-A736-887549D9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675-62C2-4FC9-820F-7D98D68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EF7F-5F87-4A2D-AF7A-453D51B5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BE3E-62A9-4F37-AE80-CE78EB3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2EAA-B432-4E1A-B8ED-915FE16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BCAD-3B9F-483B-B43C-C0C5075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5CFA-1B26-4B3B-93D0-FD08A32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B807-B9F7-4534-8ABA-F2B391E9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39D2-7F66-4B69-953C-A346A88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0C32-AB74-4C2E-A29D-D70E5E9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4A7A-F2AD-40F5-999C-E8F06E4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52DF6-12D8-4D58-AB44-E0C51D1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3C9-2031-4FE9-B64D-6239B60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CF171-8BE7-467F-A7BE-A95FDED8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12D6E-D603-477C-AFE6-3BFE4C38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9C778-1FA3-445A-A6CD-88BBAA00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288B6-9214-4F56-BABA-49CAE7E8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0768-E8A3-4863-B308-3617684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95AA3-0411-467D-8523-4BBAC83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DE43-A0A6-4E69-AC2B-B9A3DAD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4AB9-0045-4695-907A-CBD6BE97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D0EB-71E2-45F8-A07D-7B34323C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8B9C-D7B8-45A3-BE75-0B411B6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755-5B01-443B-946E-41F33B5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67C2-3AA8-4184-A43E-03BEEC8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DF3D-98D7-4323-AC1B-147F7A5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8A91-03B7-4691-922F-CFC1875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C06B0-F1F9-4B96-AAE4-B411E046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1F7E-4622-4260-BFCC-07E1F8B7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84EF2-5B3F-4E6B-910E-291F45BD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DC85-3C53-40CF-A85A-08A57665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F90A-E671-4400-99DE-2E1BE84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A9D8D-0A69-424C-A93C-59AD854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8F9F-9E70-4104-AC7B-13393F3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ABB-3C3F-4AE4-89A7-A56A209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B078-4377-4CA3-B1B3-8B7FC4C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8F47-72E0-46C4-9246-141E27F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AC44-C84D-4FE2-B5A3-16DE68A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96974-DEF5-4D04-9E03-FDEB5EF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DE54-FA13-44D5-B821-228D92C4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DABEB-AC1F-4064-9764-752F17F5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A1F7-BEA2-4EC3-B21A-DC5A2D6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6D4B7-DA32-4DDA-8595-408A2075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4ECEC-109E-4E0E-BBB9-0C94E14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87DFB-8B02-4104-8F8C-80037222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D9C-8E64-4494-ACEA-5D533747D2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D07-8CE4-47ED-92F8-9470B10ED6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2C16-8BEF-4270-A6D6-05F70DD4D0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ABD-D129-4E69-B227-F82837BCCF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D6A0-9A01-4C11-A79C-DD6FBE43CA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64D-1411-4A05-A81B-6B03FD6064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858-15FD-47A1-B14C-0746341820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0DE-6830-4D4B-8A58-40A67C7CCD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F3F4-A494-4455-8C18-9D775EB519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3271-997A-442B-8854-F003473A2C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FCE-F9DE-48FC-8F20-0C0B380228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A8B3-4793-480E-9DE0-A775ACDA45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2 Tak veľmi Boh svet milo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veľmi Boh svet milo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hriešny, strat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a smrť svojho Syna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dar ten doc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vďačne vyznáv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Boh a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rád mu odovz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pásu v ňom len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Ježišovom víťazstve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pievať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 v sláve, radost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 s láskou ví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Golgot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49:59Z</dcterms:modified>
  <cp:revision>26</cp:revision>
  <dc:subject/>
  <dc:title>Je veľký náš Pán, on slávy je Kráľ Nech do všetkých strán  spev vrúcnych znie chvál.</dc:title>
</cp:coreProperties>
</file>